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725-9103-44E8-9F96-81B655491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0510-FC03-40F3-A0D8-611270F02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88A4-1680-4496-9DDC-381615A3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EB6C-AABB-43B2-8760-D7139D8AA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5956D-22F7-4853-BCD3-274252F6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E74D-7C58-4F90-B242-2F668A33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54C88-6FBA-4C03-91F5-7349B77DC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F86C-D385-488F-9EE3-3A6F16CE9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C1920-3DCE-4F74-A573-19C77345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32D3B-B536-4893-9C5E-EC1A6431B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68833-0E77-475F-B1DC-DAD5C850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2E27-1F6D-410D-8916-01857B24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0A179-2EB2-4BAB-9568-B363D3A8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8056-C57C-4B1E-A0E5-004DA16E6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3171B-914C-43B7-867C-C24A72900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D09F-9C68-400C-A6B1-0CF993B9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06CCE-7D42-4D2A-872E-8D757DAA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A13A7-2C4D-44F4-BF0A-63977E4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42EE-8CBD-4CD2-9222-020083F7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6AD-39B7-432B-A21F-62BBACA9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D639-553F-4FCC-B5F7-45BF3198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882-CC26-4A5D-855A-F3789C903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2057-BF4B-4AAD-A048-085271BA6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4FBF-0B2F-46BC-8D26-F697A2A3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A746-134F-4B23-8621-E483258829E6}" type="slidenum"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6e4f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71767c"/>
                </a:gs>
                <a:gs pos="100000">
                  <a:srgbClr val="cbd5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cbd5df"/>
                </a:gs>
                <a:gs pos="50000">
                  <a:srgbClr val="ffffff"/>
                </a:gs>
                <a:gs pos="100000">
                  <a:srgbClr val="cbd5d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d6e4f2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R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5CE1-ED45-4ABA-93A6-E3FB510D98F6}" type="slidenum">
              <a:rPr b="0" lang="es-CR" sz="14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24000" y="1828800"/>
            <a:ext cx="84960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3366"/>
                </a:solidFill>
                <a:latin typeface="Times New Roman"/>
              </a:rPr>
              <a:t>Introducción al Proceso Administrativo: planeación y toma de decisiones</a:t>
            </a:r>
            <a:endParaRPr b="1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r Lic. Gabriel Leandro, MB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124000" y="4653000"/>
            <a:ext cx="50626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tegración de persona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identificar los requerimientos de los puestos de trabaj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clutar y seleccionar las personas idóne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r, compensar y capacitar al perso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fiere a ejercer influencia sobre los individuos para que colaboren en el logro de las metas organizacion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liderazgo, autoridad, poder, motivación, comunic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 en medir y corregir el desempeño individual y organizacional para garantizar que se alcance lo plane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evaluar el desempeño de los individuos y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medir productividad, desperdicio, variaciones presupuestaria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08800" y="1700280"/>
            <a:ext cx="8539920" cy="4392720"/>
            <a:chOff x="208800" y="1700280"/>
            <a:chExt cx="8539920" cy="4392720"/>
          </a:xfrm>
        </p:grpSpPr>
        <p:sp>
          <p:nvSpPr>
            <p:cNvPr id="155" name=""/>
            <p:cNvSpPr/>
            <p:nvPr/>
          </p:nvSpPr>
          <p:spPr>
            <a:xfrm>
              <a:off x="466560" y="1773360"/>
              <a:ext cx="3673800" cy="4319640"/>
            </a:xfrm>
            <a:prstGeom prst="triangle">
              <a:avLst>
                <a:gd name="adj" fmla="val 50000"/>
              </a:avLst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1700280"/>
              <a:ext cx="4392720" cy="4392720"/>
            </a:xfrm>
            <a:prstGeom prst="rect">
              <a:avLst/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47640" y="3573360"/>
              <a:ext cx="720108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042920" y="4797360"/>
              <a:ext cx="77058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4859280" y="1700280"/>
              <a:ext cx="7923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5651640" y="1700280"/>
              <a:ext cx="13683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51640" y="1700280"/>
              <a:ext cx="64944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908000" y="2637000"/>
              <a:ext cx="79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lt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46200" y="3789360"/>
              <a:ext cx="15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ntermedi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34000" y="515772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Mandos inferior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17571000">
              <a:off x="-671760" y="342432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Jerarquía organizacional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rot="16901400">
              <a:off x="3877560" y="3882600"/>
              <a:ext cx="1969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Planea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rot="16901400">
              <a:off x="4581360" y="3706200"/>
              <a:ext cx="237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Organiza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16901400">
              <a:off x="6111360" y="3887280"/>
              <a:ext cx="1788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Dirección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16200000">
              <a:off x="7602480" y="3779280"/>
              <a:ext cx="142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66"/>
                  </a:solidFill>
                  <a:latin typeface="Times New Roman"/>
                </a:rPr>
                <a:t>Control</a:t>
              </a:r>
              <a:endParaRPr b="0" lang="en-US" sz="3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Habilidades administr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técn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huma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de conceptual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Habilidad de diseñ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Habilidades administr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08800" y="1700280"/>
            <a:ext cx="8539920" cy="4392720"/>
            <a:chOff x="208800" y="1700280"/>
            <a:chExt cx="8539920" cy="4392720"/>
          </a:xfrm>
        </p:grpSpPr>
        <p:sp>
          <p:nvSpPr>
            <p:cNvPr id="174" name=""/>
            <p:cNvSpPr/>
            <p:nvPr/>
          </p:nvSpPr>
          <p:spPr>
            <a:xfrm>
              <a:off x="466560" y="1773360"/>
              <a:ext cx="3673800" cy="4319640"/>
            </a:xfrm>
            <a:prstGeom prst="triangle">
              <a:avLst>
                <a:gd name="adj" fmla="val 50000"/>
              </a:avLst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56000" y="1700280"/>
              <a:ext cx="4392720" cy="4392720"/>
            </a:xfrm>
            <a:prstGeom prst="rect">
              <a:avLst/>
            </a:prstGeom>
            <a:solidFill>
              <a:srgbClr val="a9bee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547640" y="3573360"/>
              <a:ext cx="720108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042920" y="4797360"/>
              <a:ext cx="7705800" cy="0"/>
            </a:xfrm>
            <a:prstGeom prst="line">
              <a:avLst/>
            </a:prstGeom>
            <a:ln w="9360">
              <a:solidFill>
                <a:srgbClr val="0033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4787640" y="1700280"/>
              <a:ext cx="100620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6516720" y="1700280"/>
              <a:ext cx="1006560" cy="4392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08000" y="2637000"/>
              <a:ext cx="792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Alt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6200" y="3789360"/>
              <a:ext cx="1505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Nivel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intermedi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34000" y="5157720"/>
              <a:ext cx="241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3366"/>
                  </a:solidFill>
                  <a:latin typeface="Times New Roman"/>
                </a:rPr>
                <a:t>Mandos inferior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rot="17571000">
              <a:off x="-671760" y="3424320"/>
              <a:ext cx="366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3366"/>
                  </a:solidFill>
                  <a:latin typeface="Times New Roman"/>
                </a:rPr>
                <a:t>Jerarquía organizacional</a:t>
              </a:r>
              <a:endParaRPr b="0" lang="en-US" sz="2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16200000">
              <a:off x="3283560" y="4365000"/>
              <a:ext cx="285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abilidades técnica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35640" y="4334040"/>
              <a:ext cx="1741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abilidade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66"/>
                  </a:solidFill>
                  <a:latin typeface="Times New Roman"/>
                </a:rPr>
                <a:t>humanas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578640" y="1773360"/>
              <a:ext cx="212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Habilidades de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conceptuali-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zación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R" sz="2400" spc="-1" strike="noStrike">
                  <a:solidFill>
                    <a:srgbClr val="003366"/>
                  </a:solidFill>
                  <a:latin typeface="Times New Roman"/>
                </a:rPr>
                <a:t>y diseño</a:t>
              </a: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Taylor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padre de la administración científic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plica el método científico para mejorar los métodos de produ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basaba en el concepto del hombre económ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003366"/>
                </a:solidFill>
                <a:latin typeface="Times New Roman"/>
              </a:rPr>
              <a:t>Fayol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: padre de la teoría administrativa moder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Determina funciones administrativas: técnicas, financieras, comerci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Propone 14 principios de la administración: división del trabajo, autoridad-responsabilidad, disciplina, unidad de mando, orden, equidad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McGregor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teoría X y teoría 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oría X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al empleado ordinario le desagrada el trabajo, es perezoso, tiene poca ambición y debe ser dirigido, obligado o amenazado con castigos para que dé un buen rendi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 u="sng">
                <a:solidFill>
                  <a:srgbClr val="003366"/>
                </a:solidFill>
                <a:uFillTx/>
                <a:latin typeface="Times New Roman"/>
              </a:rPr>
              <a:t>Teoría Y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la persona puede disfrutar del trabajo, adherirse a los objetivos organizacionales y buscar la responsabilidad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"/>
          <p:cNvGraphicFramePr/>
          <p:nvPr/>
        </p:nvGraphicFramePr>
        <p:xfrm>
          <a:off x="250920" y="404640"/>
          <a:ext cx="8686800" cy="6143400"/>
        </p:xfrm>
        <a:graphic>
          <a:graphicData uri="http://schemas.openxmlformats.org/drawingml/2006/table">
            <a:tbl>
              <a:tblPr/>
              <a:tblGrid>
                <a:gridCol w="4343400"/>
                <a:gridCol w="4343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oría X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Teoría Y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no gustan del trabajo y lo evita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trabajo puede ser fuente de satisfacció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deben ser controladas y amenazad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pueden ejercer autocontrol y autodirección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trata de evitar las responsabili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aceptan y asumen responsabilidades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medio tiene poca ambición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El ser humano tiene imaginación, creatividad e ingeni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Las personas se preocupan principalmente de su propia seguridad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800" spc="-1" strike="noStrike">
                          <a:solidFill>
                            <a:srgbClr val="003366"/>
                          </a:solidFill>
                          <a:latin typeface="Times New Roman"/>
                          <a:ea typeface="Times New Roman"/>
                        </a:rPr>
                        <a:t>Se puede conseguir una mayor utilización del potencial human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ntenido: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6868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dministración: Definición, naturaleza y propósito de la administr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Funciones de los administrador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Planeación: Tipos de pla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Pasos y objetivos de la planeac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strategias, políticas y proceso de la planeación estratégica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Toma de decisiones: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Importancia y limitaciones del proceso de toma de decisione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Times New Roman"/>
              </a:rPr>
              <a:t>Evaluación de alternativas de decisión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Likert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Sistemas de dir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1: Sistema autoritario y fuerte: La cima de la organización centraliza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2: Sistema autoritario benévolo: Existe más de confianza y comunicación, pero aun la interacción humana es poca y las decisiones centralizad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Algunos planteamientos del pensamient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3366"/>
                </a:solidFill>
                <a:latin typeface="Times New Roman"/>
              </a:rPr>
              <a:t>Likert</a:t>
            </a: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: Sistemas de dire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3: Sistema participativo consultivo: mayor interacción a nivel personal y mayor apertura en la toma de decisiones,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Sistema 4: Sistema participativo de grupo: confianza completa, las personas sienten responsabilidades en todos los niveles de la organiz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nfoque sistémico de proces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Un sistema e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un conjunto de elementos dinámicamente relacionad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que desarrollan una actividad para alcanzar un objetiv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operando sobre insumos tomados del medio extern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nfoque sistémico de proceso administrativ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empresa se ve como un sistema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abier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complejo (implica subsistemas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Un sistema dinám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Planeación,</a:t>
            </a:r>
            <a:br>
              <a:rPr sz="5400"/>
            </a:b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estrategias y políticas</a:t>
            </a:r>
            <a:r>
              <a:rPr b="1" lang="es-CR" sz="5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determinar misiones y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terminar las acciones necesarias para alcanzar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iende el puente entre el punto donde se está y el punto hacia donde se desea i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laneación y control son inseparab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755640" y="2203560"/>
            <a:ext cx="187164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27280" y="2563920"/>
            <a:ext cx="720720" cy="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348000" y="1989000"/>
            <a:ext cx="2664000" cy="1079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mple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 los pla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12000" y="2563920"/>
            <a:ext cx="718920" cy="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32720" y="2203560"/>
            <a:ext cx="1366560" cy="720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451640" y="2924280"/>
            <a:ext cx="0" cy="151272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8200" y="4363920"/>
            <a:ext cx="19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Desvi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con respec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 lo planead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4714920" y="3068640"/>
            <a:ext cx="0" cy="201600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4714920" y="5011560"/>
            <a:ext cx="1728720" cy="0"/>
          </a:xfrm>
          <a:prstGeom prst="line">
            <a:avLst/>
          </a:prstGeom>
          <a:ln w="190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618920" y="5011560"/>
            <a:ext cx="3095640" cy="0"/>
          </a:xfrm>
          <a:prstGeom prst="line">
            <a:avLst/>
          </a:prstGeom>
          <a:ln w="19044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619280" y="2923920"/>
            <a:ext cx="0" cy="2160360"/>
          </a:xfrm>
          <a:prstGeom prst="line">
            <a:avLst/>
          </a:prstGeom>
          <a:ln w="19044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409840" y="5059440"/>
            <a:ext cx="285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Acciones correc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ipos de plane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84360" y="148428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205000"/>
            <a:ext cx="460872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Objetivos y met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484360" y="292572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strateg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27280" y="3645000"/>
            <a:ext cx="352908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95640" y="4365720"/>
            <a:ext cx="439236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cedimientos y re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484360" y="5086440"/>
            <a:ext cx="3888000" cy="5047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68360" y="5805360"/>
            <a:ext cx="4248360" cy="505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Presupue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427640" y="198900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270972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27640" y="342900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14972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427640" y="4870440"/>
            <a:ext cx="0" cy="21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427640" y="5589720"/>
            <a:ext cx="0" cy="215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 la misión se identifica la función o tarea básica de una empresa o una parte de ell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 todo sistema social, las empresas tienen una función o tarea esencial que la sociedad les asign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Mis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gunas veces la misión se sustenta en valores corpora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valores constituyen la forma en que la empresa se percibe a sí misma y a quienes la integran y rodea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os valores dan forma a su filosof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349360"/>
            <a:ext cx="79185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003366"/>
                </a:solidFill>
                <a:latin typeface="Times New Roman"/>
              </a:rPr>
              <a:t>Administración: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573000"/>
            <a:ext cx="6400800" cy="20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3366"/>
                </a:solidFill>
                <a:latin typeface="Times New Roman"/>
              </a:rPr>
              <a:t>Definición, naturaleza y propósito de la administración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Objetivos y met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os objetivos son los fines que se persiguen por medio de una u otra activ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Representan el fin que se persigue mediante la organización, la integración de personal, la dirección y el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as metas se diferencian porque son medibles o verificables objetivamente: responden a preguntas como: qué, cuánto, cuándo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lacionan con la determinación de objetivos básicos a largo plazo de una empresa y la adopción de cursos de acción y la asignación de los recursos necesarios para su cumplimient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 programa general para definir y alcanzar los objetivos y poner en práctica la m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patrón de las respuestas de la organización a su ambiente a través del tiem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n en enunciados o criterios generales que orientan o encauzan el pensamiento en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yudan a decidir asuntos antes de que se conviertan en problem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uelven innecesario el análisis de la misma situación cada vez que se present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miten delegar autoridad sin perder contro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cedimient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miten establecer un método para el manejo de actividades f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sten en secuencias cronológicas de las acciones requerid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n guías de acción, no de pensamiento, en las que se detalla la manera exacta en que debe realizarse al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Regl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ponen acciones u omisiones específicas, no sujetas a la discrecionalidad de las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n una decisión administrativa en cuanto a la obligada realización u omisión de una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diferencia entre las políticas y las reglas es que las políticas orientan decisiones en las que se puede actuar a discreción, pero en las reglas no se permite la discrecionalidad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on un conjunto de metas, políticas, procedimientos, reglas, asignaciones de tareas, pasos a seguir, recursos por emplear y otros elementos necesario para llevar a cabo un curso de acción dad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Generalmente se apoyan en presupues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esupuest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a formulación de resultados expresados en términos numéric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uede expresarse en términos monetarios o de unidades físicas (tiempo, unidades de producto, etc.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instrumento de planeación fundamental de muchas empre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348000" y="260280"/>
            <a:ext cx="266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Met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203640" y="1195560"/>
            <a:ext cx="3024000" cy="502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estratégic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16360" y="76356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716360" y="1700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03640" y="2131920"/>
            <a:ext cx="302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opera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16360" y="2635200"/>
            <a:ext cx="0" cy="28908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195640" y="2924280"/>
            <a:ext cx="252072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195640" y="2924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68120" y="238932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a ac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no recurr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84360" y="3355920"/>
            <a:ext cx="302400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de un solo us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84360" y="4292640"/>
            <a:ext cx="1726920" cy="1224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gram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yec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56000" y="4292640"/>
            <a:ext cx="1152360" cy="1224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Presu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pues-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3366"/>
                </a:solidFill>
                <a:latin typeface="Times New Roman"/>
              </a:rPr>
              <a:t>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4716000" y="2924280"/>
            <a:ext cx="25210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236000" y="29242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724360" y="335592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lanes perman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724360" y="429264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olít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237440" y="3860640"/>
            <a:ext cx="0" cy="432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724360" y="522756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Procedimien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237440" y="479592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724360" y="6165720"/>
            <a:ext cx="3024360" cy="503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Regl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237440" y="5734080"/>
            <a:ext cx="0" cy="43164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721200" y="2349360"/>
            <a:ext cx="21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ara actividad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recurrent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3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nálisis situacional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biente intern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talez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bil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biente extern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portun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menaz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tablecimiento de objetivos y met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ponder a preguntas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ónde se quiere esta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Qué se desea hacer y cuándo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8668e8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Jerarquizar objetivos: plantear objetivos cla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bjetivos por jerarquía organizacional: estratégicos, operacionales, generales, individu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3366"/>
                </a:solidFill>
                <a:latin typeface="Times New Roman"/>
              </a:rPr>
              <a:t>Administración:</a:t>
            </a:r>
            <a:r>
              <a:rPr b="1" lang="es-CR" sz="4400" spc="-1" strike="noStrike">
                <a:solidFill>
                  <a:srgbClr val="003366"/>
                </a:solidFill>
                <a:latin typeface="Times New Roman"/>
              </a:rPr>
              <a:t> Defini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s el proceso de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lanear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organizar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dirigir y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control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los esfuerzos de los miembros de la organización, y de aplicar los demás recursos de ella para alcanzar las metas establecidas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Desarrollo de premis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ronosticar condiciones internas y externas en que se operará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Volumen de ventas? Precios? Productos? Adelantos técnicos? Costos? Salarios? Políticas fiscales? Condiciones sociales?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dentificación de cursos de acción alternativ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identificar las mejores alternativas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xaminar sus ventajas y desventaj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valuación de las alternativ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r los distintos cursos alternativos de acción a la luz de las premisas establecidas (paso 3) y las metas que se desea alcanzar (paso 2) de acuerdo con el entorno que enfrenta la empresa (paso 1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lección de un curso de acció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toma una dec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elige el que se pueda considerar como el mejor curso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Formulación de planes de apoy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elaboran planes derivados en apoyo al plan básic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or ejemplo: plan de compra de equipo, plan de compra de materiales, plan de capacitación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asos de la plane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8. </a:t>
            </a:r>
            <a:r>
              <a:rPr b="1" lang="es-CR" sz="3200" spc="-1" strike="noStrike">
                <a:solidFill>
                  <a:srgbClr val="003366"/>
                </a:solidFill>
                <a:latin typeface="Times New Roman"/>
              </a:rPr>
              <a:t>Presupuestación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Los planes se trasladan a cifras a través de los presupuest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Presupuestos de ventas, de gastos de operación, de efectivo, estados financieros, inversiones de capital, entre otr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dministración por objetiv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un sistema administrativo integr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combinan en forma sistemática muchas actividades administrativas bás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ersigue el cumplimiento eficaz y eficiente de los objetivos organizacionales e individual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Administración por objetivo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ace énfasis en la evaluación del desempeñ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a mucha importancia a los objetivos individuales, la motivación, los incentivos, la participación y la autonomí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concentra mucho en el cort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strategias y polític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s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 se relacionan con los objetivos a largo plazo de una empresa y la adopción de cursos de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tituyen un programa general para definir y alcanzar los objetivos y poner en práctica la m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rman un patrón de las respuestas de la organización a su ambiente a lo largo del tiemp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aracterísticas de las estrategi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Horizonte temporal ampli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acto final relev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centración del esfuerzo en un número reducido de fi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Patrón de decisiones uniform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globan a toda la organización: desde la asignación de recursos hasta las operaciones diarias en todos los nivele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l proceso administrativ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l proceso administrativo consiste básicamente en una serie de actividades relacionadas conducentes a alcanzar los objetivos organizacionales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Principio de la estructura de estrategias y polític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uanto más claras sean la comprensión de las estrategias y políticas y su implementación en la práctica,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anto más consistente y efectiva será la estructura de los planes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laneación estratégic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el proceso formal de planeación a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utiliza para definir y alcanzar las meta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acilita mejoras en el funcionamiento de la empres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nsibiliza a la empresa ante un ambiente cambia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e ocupa de cuestiones fundamentale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sponde a preguntas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En qué negocio estamo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En qué negocio deberíamos estar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Quiénes son nuestros clientes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frece un marco de referencia para una planeación más detallada y para las decisiones ordinaria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¿Cuáles opciones serán las más adecuadas de acuerdo con nuestra estrategia?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Supone un marco temporal más largo que otros tipos de plane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diferencia de la planeación operativa porque se enfoca en el largo plaz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Ayuda a orientar las energías y recursos de la organización hacia las actividades de alta prioridad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onsigue mayor eficiencia al concentrarse en un número reducido de fines clav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Características de la planeación estratégica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Es una actividad de alto nivel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alta gerencia debe participar activament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ólo la alta gerencia tiene la visión necesaria para considerar todos los aspectos de la organiz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Proceso de planeación estratégic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unque no existe un proceso universal de planeación estratégica, si pueden plantearse una serie de pasos básicos en los que el proceso puede fundamentars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250920" y="1125360"/>
            <a:ext cx="1225440" cy="424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sum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son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apit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Ha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Metas 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grup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Times New Roman"/>
              </a:rPr>
              <a:t>interesados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mplead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veed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ccionist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tc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63640" y="2637000"/>
            <a:ext cx="1079640" cy="10792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nális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 l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dustr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285264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erfi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mpresar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132000" y="4149720"/>
            <a:ext cx="115272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Propósit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bjetiv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Inten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765000"/>
            <a:ext cx="1152720" cy="1366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Orient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jecutiv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alor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V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32360" y="249228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sarroll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egi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alternativ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932360" y="436572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ebil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fortale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932360" y="549360"/>
            <a:ext cx="1152360" cy="136692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Amenaza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Oportu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nidad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372360" y="2492280"/>
            <a:ext cx="1152360" cy="1368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valu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decis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estratégic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812000" y="285264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Implemen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003366"/>
                </a:solidFill>
                <a:latin typeface="Times New Roman"/>
              </a:rPr>
              <a:t>t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812000" y="4437000"/>
            <a:ext cx="1152720" cy="576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y contro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84328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708360" y="2133720"/>
            <a:ext cx="0" cy="71892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708360" y="3429000"/>
            <a:ext cx="0" cy="71928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472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572000" y="1197000"/>
            <a:ext cx="0" cy="194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572000" y="1197000"/>
            <a:ext cx="360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572000" y="3068640"/>
            <a:ext cx="0" cy="1944720"/>
          </a:xfrm>
          <a:prstGeom prst="line">
            <a:avLst/>
          </a:prstGeom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5013360"/>
            <a:ext cx="360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08720" y="1916280"/>
            <a:ext cx="0" cy="576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508720" y="386064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3141720"/>
            <a:ext cx="28764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24720" y="3141720"/>
            <a:ext cx="287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88360" y="3429000"/>
            <a:ext cx="0" cy="100800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388360" y="5013360"/>
            <a:ext cx="0" cy="122400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755640" y="6237360"/>
            <a:ext cx="7632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55640" y="5373360"/>
            <a:ext cx="0" cy="86364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916360" y="1412640"/>
            <a:ext cx="0" cy="4824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916360" y="1413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916360" y="292428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916360" y="4869000"/>
            <a:ext cx="21564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427640" y="980640"/>
            <a:ext cx="0" cy="525636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427640" y="98100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335772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427640" y="5229360"/>
            <a:ext cx="504720" cy="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6948360" y="3860640"/>
            <a:ext cx="0" cy="2376720"/>
          </a:xfrm>
          <a:prstGeom prst="line">
            <a:avLst/>
          </a:prstGeom>
          <a:ln w="9360">
            <a:solidFill>
              <a:srgbClr val="00336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000"/>
                            </p:stCondLst>
                            <p:childTnLst>
                              <p:par>
                                <p:cTn id="2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4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"/>
                            </p:stCondLst>
                            <p:childTnLst>
                              <p:par>
                                <p:cTn id="30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2000"/>
                            </p:stCondLst>
                            <p:childTnLst>
                              <p:par>
                                <p:cTn id="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500"/>
                            </p:stCondLst>
                            <p:childTnLst>
                              <p:par>
                                <p:cTn id="3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3000"/>
                            </p:stCondLst>
                            <p:childTnLst>
                              <p:par>
                                <p:cTn id="3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3500"/>
                            </p:stCondLst>
                            <p:childTnLst>
                              <p:par>
                                <p:cTn id="3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9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4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500"/>
                            </p:stCondLst>
                            <p:childTnLst>
                              <p:par>
                                <p:cTn id="4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7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500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Algunas estrategias:</a:t>
            </a:r>
            <a:br>
              <a:rPr sz="4000"/>
            </a:b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La matriz TOW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350" name=""/>
          <p:cNvGraphicFramePr/>
          <p:nvPr/>
        </p:nvGraphicFramePr>
        <p:xfrm>
          <a:off x="250920" y="1805040"/>
          <a:ext cx="8569080" cy="4071960"/>
        </p:xfrm>
        <a:graphic>
          <a:graphicData uri="http://schemas.openxmlformats.org/drawingml/2006/table">
            <a:tbl>
              <a:tblPr/>
              <a:tblGrid>
                <a:gridCol w="1512720"/>
                <a:gridCol w="1728720"/>
                <a:gridCol w="2664000"/>
                <a:gridCol w="2663640"/>
              </a:tblGrid>
              <a:tr h="533160"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actores interno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ortalez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ebili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102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Factor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xterno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Oportuni-dade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FO: usar F para aprovechar 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DO: superar D para aprovechar O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50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Amenazas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FA: usar F para enfrentar 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Estrategias DA: minimizar D y A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El proceso administrativo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l proceso administrativo tiene cuatro elementos básico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Alcance de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Por medio de person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Mediante técnic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3366"/>
                </a:solidFill>
                <a:latin typeface="Times New Roman"/>
              </a:rPr>
              <a:t>En una organización</a:t>
            </a:r>
            <a:r>
              <a:rPr b="0" lang="es-CR" sz="32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000" spc="-1" strike="noStrike">
                <a:solidFill>
                  <a:srgbClr val="003366"/>
                </a:solidFill>
                <a:latin typeface="Times New Roman"/>
              </a:rPr>
              <a:t>Algunas estrategias:</a:t>
            </a:r>
            <a:br>
              <a:rPr sz="4000"/>
            </a:br>
            <a:r>
              <a:rPr b="1" lang="es-CR" sz="4000" spc="-1" strike="noStrike">
                <a:solidFill>
                  <a:srgbClr val="003366"/>
                </a:solidFill>
                <a:latin typeface="Times New Roman"/>
              </a:rPr>
              <a:t>Estrategias genéricas de Porter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res estrategias genéricas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iderazgo de cos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iferenci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nfoqu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pueden combin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relacionan con </a:t>
            </a: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ventajas competi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strumentación exitosa de estrategi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1. Comunicar las estrategias a todos los responsables de tomar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2. Desarrollar y comunicar premisas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3. Comprobar que los planes de acción contribuyan a lograr los objetivos y que las estrategias sean reflejo de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Times New Roman"/>
              </a:rPr>
              <a:t>Instrumentación exitosa de estrategia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. Revisar regularmente las estrateg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5. Desarrollar estrategias y programas de contingenci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6. Adecuar la estructura organizacional a las necesidades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7. Insistir permanentemente en la planeación y la instrumentación de estrategi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8. Crear un clima que induzca a la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Toma de</a:t>
            </a:r>
            <a:br>
              <a:rPr sz="5400"/>
            </a:b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decisiones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24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Importancia de la</a:t>
            </a:r>
            <a:br>
              <a:rPr sz="4000"/>
            </a:b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toma racional de decisio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La toma de decisiones es la parte más importante del proceso de planea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 proceso dirigido a la toma de una decisión puede concebirse como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tablecimiento de premis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dentificación de alterna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valuación de las alternativ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990720" indent="-533520">
              <a:spcBef>
                <a:spcPts val="799"/>
              </a:spcBef>
              <a:buClr>
                <a:srgbClr val="003366"/>
              </a:buClr>
              <a:buSzPct val="60000"/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lección de una alternativa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Limitaciones del proceso de</a:t>
            </a:r>
            <a:br>
              <a:rPr sz="4000"/>
            </a:b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toma racional de decisiones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lto grado de incertidumbre sobre las condiciones futur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No se pueden considerar todas las posibles alternativas ni sus efect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aplicar una racionalidad “limitada” por la información, el tiempo y la incertidumbre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Evaluación de alternativas de decisión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Es necesario considerar factores cuantitativos y cualita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uantitativo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tiempo, costos, ganancia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ualitativos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relaciones laborales, cambio tecnológico, condiciones políticas y sociales, etc.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Técnicas cuantitativas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margina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costo – beneficio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Análisis de riesgo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Árboles de decis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Otras técnicas de investigación de operac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Selección de una alternativa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4360" y="3213000"/>
            <a:ext cx="2160360" cy="792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eri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349800" y="1557360"/>
            <a:ext cx="2736720" cy="79200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xperimen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494160" y="4869000"/>
            <a:ext cx="2376360" cy="12254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Investig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y análisi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637080" y="2852640"/>
            <a:ext cx="2160360" cy="1513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¿Cuá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lternativ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eleccionar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518160" y="3068640"/>
            <a:ext cx="2160720" cy="115236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tomad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844720" y="3645000"/>
            <a:ext cx="79236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718160" y="234936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4718160" y="4365720"/>
            <a:ext cx="0" cy="50328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797440" y="3645000"/>
            <a:ext cx="719280" cy="0"/>
          </a:xfrm>
          <a:prstGeom prst="line">
            <a:avLst/>
          </a:prstGeom>
          <a:ln w="7632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3366"/>
                </a:solidFill>
                <a:latin typeface="Times New Roman"/>
              </a:rPr>
              <a:t>Certidumbre, incertidumbre y riesgo</a:t>
            </a:r>
            <a:endParaRPr b="1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Certeza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Cuando se conocen los efectos que generará cierta acción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Riesgo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El efecto de la decisión se conoce solo en términos de probabilidad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Incertidumbre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 Se desconocen los efectos futuros de las decisiones present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87640" y="1413000"/>
            <a:ext cx="316872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56000" y="2494080"/>
            <a:ext cx="40320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35280" y="3573360"/>
            <a:ext cx="5473440" cy="64764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Integración de person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56000" y="4653000"/>
            <a:ext cx="403200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Dirección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87640" y="5732640"/>
            <a:ext cx="3168720" cy="649080"/>
          </a:xfrm>
          <a:prstGeom prst="rect">
            <a:avLst/>
          </a:prstGeom>
          <a:solidFill>
            <a:srgbClr val="a9bee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ontro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2060640"/>
            <a:ext cx="0" cy="43164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3141720"/>
            <a:ext cx="0" cy="43164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4221000"/>
            <a:ext cx="0" cy="43200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5302080"/>
            <a:ext cx="0" cy="432000"/>
          </a:xfrm>
          <a:prstGeom prst="line">
            <a:avLst/>
          </a:prstGeom>
          <a:ln w="11448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1557360"/>
            <a:ext cx="777240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Fin</a:t>
            </a:r>
            <a:br>
              <a:rPr sz="5400"/>
            </a:br>
            <a:r>
              <a:rPr b="1" lang="en-US" sz="5400" spc="-1" strike="noStrike">
                <a:solidFill>
                  <a:srgbClr val="003366"/>
                </a:solidFill>
                <a:latin typeface="Times New Roman"/>
              </a:rPr>
              <a:t>Muchas gracias!</a:t>
            </a:r>
            <a:endParaRPr b="1" lang="en-US" sz="5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101680" y="4149720"/>
            <a:ext cx="50626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Plane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Implica determinar misiones y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Determinar las acciones necesarias para alcanzar los objetivo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Requiere la toma de decisione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d5d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unciones de la administración</a:t>
            </a:r>
            <a:endParaRPr b="1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Times New Roman"/>
              </a:rPr>
              <a:t>Organización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upone el establecimiento de una estructura de los papeles que cada persona debe desempeñar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 asignan las tareas necesarias a las personas idóneas para el cumplimiento de los objetivos y metas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auladeeconomia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02:59:24Z</dcterms:created>
  <dc:creator>Gabriel Leandro</dc:creator>
  <dc:description/>
  <dc:language>en-US</dc:language>
  <cp:lastModifiedBy>WinuE</cp:lastModifiedBy>
  <dcterms:modified xsi:type="dcterms:W3CDTF">2011-02-12T00:46:49Z</dcterms:modified>
  <cp:revision>127</cp:revision>
  <dc:subject/>
  <dc:title>Curso de Formación Empresarial</dc:title>
</cp:coreProperties>
</file>